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2E49-349B-4847-A65F-B9F41283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AD34-8C5C-41D0-8543-B857CED6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40F4-1745-47A3-8C8A-C56EBB41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A1BB-9FFC-4D5A-B302-5B95A517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5F4-44A6-40F7-92A1-46FA118E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EB9-F528-4568-B888-308773A5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469-A518-4FA3-9A6E-F5939CA7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214-5695-436B-96FB-2EC708C4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779D-91F2-4B50-B899-4DAF74B9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C2A3-5982-490E-BBCA-267C4334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34C4-8878-4ABD-8002-84D9C7CA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4235-6822-4DF8-8340-54929A74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4C97-D9C7-4006-8AE2-7AE4D8B06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ellowjackets 28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ty well-done -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effective and realistic -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lent! -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well planned-out and written -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creative -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overall.  Needed a bit more development in this part. -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7:35:21Z</dcterms:created>
  <dc:creator>nbdoe</dc:creator>
  <dc:description/>
  <dc:language>en-US</dc:language>
  <cp:lastModifiedBy>nbdoe</cp:lastModifiedBy>
  <dcterms:modified xsi:type="dcterms:W3CDTF">2007-05-09T17:35:46Z</dcterms:modified>
  <cp:revision>1</cp:revision>
  <dc:subject/>
  <dc:title>Election 2007</dc:title>
</cp:coreProperties>
</file>